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165-5200-45B1-A752-3013CB2B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714-FCDD-49F3-9EFC-0AAB12F5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7B3-5C4F-4DBA-9D80-CCB109C1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2C5-B46A-4D5D-B867-A00ACAAC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1320-A900-4128-9884-1A3A59E9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2FB5-7FD2-4D01-A70F-469039A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5DE2-86AC-4429-9D8F-D799F16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ED3C-4CF4-4706-A1A7-6922562F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E9FA-362F-49DE-9F66-D1EE5190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2A60-C04F-4CD4-A653-3351768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C972-DB08-425A-8DA2-9778CF2A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04E-D33A-413F-8FB0-65653AF8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4D6E-C4F8-4D09-809E-5D26CB16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9929-499F-4FCB-AF01-4445C992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E52C-7C90-409B-8F04-193909EA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B221-BF5F-425A-84F9-A14DFC6D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619E-6771-41E0-B5DA-87ABCDA4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655-1F94-4F56-BF63-222CB447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A5D-5ED5-434A-BE95-2D1F5239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533-E815-4F5C-8613-D5E3E2BB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20C-C247-48CC-A292-29074CD8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C50-B308-41AB-994B-33D12942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571-5B48-4EE9-970D-DCEAD0C3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8EC-569A-4F39-AD25-B5455724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D869-17F2-46F6-9B8C-187DEDAD51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9C30-0A09-4B08-844D-81F0AC7397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1125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French Networ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9th March 20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81400" y="2557440"/>
            <a:ext cx="4381200" cy="1743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826596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 flipV="1">
            <a:off x="6588000" y="1268280"/>
            <a:ext cx="7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087280" cy="1417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2103120" cy="3889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059280" y="476280"/>
            <a:ext cx="2330280" cy="2951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580000" y="549360"/>
            <a:ext cx="2092320" cy="316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2736720" cy="1035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7969320" cy="704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H="1">
            <a:off x="2987280" y="1052640"/>
            <a:ext cx="1297080" cy="21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284360" y="2492280"/>
            <a:ext cx="129708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184720" cy="3975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 flipV="1">
            <a:off x="6012000" y="2565360"/>
            <a:ext cx="129672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6000" y="923400"/>
            <a:ext cx="82436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More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AU" sz="2800" spc="-1" strike="noStrike">
                <a:solidFill>
                  <a:srgbClr val="000000"/>
                </a:solidFill>
                <a:latin typeface="Comic Sans MS"/>
              </a:rPr>
              <a:t>Embedding, Inserting &amp; Linking on Wikispaces”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http://www.slideshare.net/technolote/embedding-inserting-and-linking-on-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27280" y="3073320"/>
            <a:ext cx="4051440" cy="378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48000" y="2441520"/>
            <a:ext cx="4338720" cy="396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6080" y="859680"/>
            <a:ext cx="8024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More Wikispaces Features – Tab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http://www.slideshare.net/technolote/more-wikispaces-features-the-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92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very French teacher in 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ares just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1 resource a mo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e would have about 40 new resources a month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 a yea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36036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n’t see it as a waste of time but as 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good way to save tim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find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new ideas and new resour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0000"/>
                </a:solidFill>
                <a:latin typeface="Comic Sans MS"/>
              </a:rPr>
              <a:t>Other opportuniti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tra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rimary workshop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with Myri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French Teachers’ Professional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2 days early September) with the Embass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Conferenc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at the university of Sydne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The French language and French-speaking diversity in the Asia-Pacific region”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2-6 Decemb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You can still join the NAF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-67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Questions &amp; Answer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n the Alliance França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n the French Net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ny suggestions, comments, feedba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What you need, expec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MERCI 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559640" cy="3384360"/>
          </a:xfrm>
          <a:prstGeom prst="rect">
            <a:avLst/>
          </a:prstGeom>
          <a:noFill/>
          <a:ln w="57240">
            <a:solidFill>
              <a:srgbClr val="703d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703dff"/>
                </a:solidFill>
                <a:latin typeface="Monotype Corsiva"/>
              </a:rPr>
              <a:t>Ludivine Le-G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rench teacher - Telopea Park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rench Network Lea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620 5558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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ludivine.legal@ed.act.edu.a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41040" y="-259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Bienvenue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1477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ing workshops (important dat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ing resources online (wikispac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opportun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aring workshop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Primary teach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nday 31st Ma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erm 2 - week 6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nday 30th Augus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erm 3 - week 7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om 4pm to 6pm at the CTL in MR 3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Secondary teacher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ursday 10th Ju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erm 2- week 7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ursday 2nd Septemb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erm 3 - week 7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om 4.15pm to 6pm at the CTL in MR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400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aring workshop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1800" y="-8190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aring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500720" cy="2994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00720" y="1735200"/>
            <a:ext cx="42480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any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Bring you memory stick with resources to sh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active whiteboards.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Smartboard and Prometh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Many ideas on how to use IWB to teach languages interactive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522680"/>
            <a:ext cx="8280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Round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Bring any other resources you would like to sh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(Songs, worksheets, website addresse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080" y="88416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TL – M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156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enrol in these events please register on the following websi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DET Professional Learning Calenda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ttp://activated.act.edu.au/Calendar/Events.aspx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901800" y="-69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aring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2040" y="1222200"/>
            <a:ext cx="5289120" cy="1191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entre for Teaching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51 Fremantle Dr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ti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1960" y="-675000"/>
            <a:ext cx="723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aring ressources on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What’s a « wiki 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http://web2educatorsupport.wikispaces.com/What+is+a+wiki%3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Why?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or us to be able to share resources easily, quickly and regularly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2200" y="189000"/>
            <a:ext cx="614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French Network « wiki »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frenchnetwork-act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327800" cy="37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210280" cy="307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826596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 flipV="1">
            <a:off x="6227640" y="1197000"/>
            <a:ext cx="7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22:41:50Z</dcterms:created>
  <dc:creator> </dc:creator>
  <dc:description/>
  <dc:language>en-US</dc:language>
  <cp:lastModifiedBy>Ludivine Legal</cp:lastModifiedBy>
  <dcterms:modified xsi:type="dcterms:W3CDTF">2010-03-30T21:26:45Z</dcterms:modified>
  <cp:revision>9</cp:revision>
  <dc:subject/>
  <dc:title>French Network</dc:title>
</cp:coreProperties>
</file>